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A55-FCBD-48E2-A8EB-FFF53DF2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0EB-BB32-4603-AD2F-546B5BDF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BE4-C524-4486-A324-EFF254B5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C06-3543-4339-A6D2-E5FDFF3C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C6D-AE4B-499B-8A03-FCB89766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20F-B581-41DC-ACF1-F4C24644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E7A-7980-4A70-A643-F7474E67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EDE-9C11-4131-9270-3907AAA8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A15-4ACC-4216-B994-D4C2769B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6EF-EDE6-4F47-92E3-3D05ED53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15D-3D46-4E33-A9AC-8B615345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657-CAD6-42D1-AE71-39356037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802E-257D-4BA1-96C5-1EEFAED2A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28760" y="3618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شكر ربي أنا الإنس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 صورة الله خلق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ا نعماتو السما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مزروعة في كل مك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ذكر محبته الغنية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بتعيشنا بأ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32800" y="2286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العايش بالخط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سلم حالي للنس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نقصني شوية إرا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تفة محبة وإي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عطيني توبة حقيق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دخل بقلبي الحن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32800" y="3618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فرح وبهلل لعياد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نت يا رب الأكو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قبلني واحد من أولا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محبتك أنا جوع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عبة اتخلى عن در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ح تبقى بقلبي دف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01:12Z</dcterms:modified>
  <cp:revision>2</cp:revision>
  <dc:subject/>
  <dc:title>PowerPoint Presentation</dc:title>
</cp:coreProperties>
</file>